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bfcf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bfcf6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26B50-B3D6-40C1-919E-8FD8EA2DEA5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56808-4928-4D8C-AEC3-27A7F710B0A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57934-3199-4ABF-AA56-1A6D9041991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C4AA4-D34F-44A9-93EF-2CB2EEBB6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bfcf6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93D34-A843-4176-AC38-516FD3B2C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bfcf6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62BC8-DEF4-4E8F-90AB-0B34DF62E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bfcf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21305-F4A8-45ED-A0CA-44E7A6DB8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846CE9-FDCA-4C4E-889A-5EBFBE8D5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bfcf6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A2C7F0-FA49-4875-ABA9-7CD42B325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bfcf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F53BC3-7050-4D92-9572-F389CD321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bfcf6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95A3AC-51BE-4EF3-BE20-0654C5E81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bfcf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716C90-070E-45CF-A497-9780E1E6D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E4C018-995B-448B-AE11-8EAAA0A1B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bfcf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7D8B0B-01CC-4B83-9EF0-D213A3658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bfcf6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B9EA1-FE02-4C78-A264-3E00D87B4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bfcf6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1127D5-079C-4439-99F8-6D4AA9AE1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bfcf6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234094-F773-4E3E-8DA7-A7A0736CC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bfcf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161BB5-5124-4858-8BDE-7980A1630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bfcf6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1CB711-35C5-485F-8FE4-63B8D7E81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bfcf6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1E3B09-DBE5-48D4-8835-055749156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bfcf6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06A70-45F6-4E0E-A3C6-AE15BD1BE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bfcf6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03C2E-6CE3-4D70-B648-1C6F95C47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bfcf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B3714-E30C-4773-91FB-A6AB09E2A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CC661-C37A-4E25-9BE2-39B944ED8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bfcf6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926C5-6B0D-4E22-A777-EB6351554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bfcf6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940D6-1F87-4EFB-883F-6FAB50109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bfcf6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3542F-612C-4399-937C-99E656840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bfcf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bfcf6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79247-C828-47CE-BFBA-4E8C05E6E3C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bfcf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bfcf6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E5F35-EE6B-4FF2-B577-C361A0941BF6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685800" y="990720"/>
            <a:ext cx="80773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9933"/>
                </a:solidFill>
                <a:latin typeface="Tahoma"/>
              </a:rPr>
              <a:t>Человеческий голос как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9933"/>
                </a:solidFill>
                <a:latin typeface="Tahoma"/>
              </a:rPr>
              <a:t> </a:t>
            </a:r>
            <a:r>
              <a:rPr b="1" lang="ru-RU" sz="5400" spc="-1" strike="noStrike">
                <a:solidFill>
                  <a:srgbClr val="ff9933"/>
                </a:solidFill>
                <a:latin typeface="Tahoma"/>
              </a:rPr>
              <a:t>музыкальный   инструмент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Rectangle 9"/>
          <p:cNvSpPr/>
          <p:nvPr/>
        </p:nvSpPr>
        <p:spPr>
          <a:xfrm>
            <a:off x="5562720" y="5105520"/>
            <a:ext cx="2514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ыполнила: Козулина Е.А.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143 групп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57200" y="6091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ff"/>
                </a:solidFill>
                <a:latin typeface="Times New Roman"/>
              </a:rPr>
              <a:t>А можно ли влиять на голос? Можно ли его как то изменить?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57200" y="6091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imes New Roman"/>
              </a:rPr>
              <a:t>Как же сыграть на тройной системе в пределах нескольких октав и в каждый момент времени получать строго одну частоту?!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imes New Roman"/>
              </a:rPr>
              <a:t>Достигнуть этого можно лишь с опытом и сноровкой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98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98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62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Люди пользуются нелинейным процессом обратной связи  в преддверии гортани          (части воздушного пути над гортанью) для получения резонанса, т.е. усиления звуков, создаваемых голосовыми складками. Этот процесс  называется инерционным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сопротивлением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8229600" cy="259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ffff"/>
                </a:solidFill>
                <a:latin typeface="Tahoma"/>
              </a:rPr>
              <a:t>Что вы знаете о человеческом голосе?</a:t>
            </a:r>
            <a:br>
              <a:rPr sz="6600"/>
            </a:br>
            <a:endParaRPr b="0" lang="en-US" sz="6600" spc="-1" strike="noStrike">
              <a:solidFill>
                <a:srgbClr val="fbfcf6"/>
              </a:solidFill>
              <a:latin typeface="Tahoma"/>
            </a:endParaRPr>
          </a:p>
        </p:txBody>
      </p:sp>
      <p:pic>
        <p:nvPicPr>
          <p:cNvPr id="93" name="Picture 5" descr=""/>
          <p:cNvPicPr/>
          <p:nvPr/>
        </p:nvPicPr>
        <p:blipFill>
          <a:blip r:embed="rId1"/>
          <a:stretch/>
        </p:blipFill>
        <p:spPr>
          <a:xfrm>
            <a:off x="1905120" y="2971800"/>
            <a:ext cx="518148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295280"/>
            <a:ext cx="815328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0"/>
            </a:br>
            <a:r>
              <a:rPr b="0" lang="ru-RU" sz="10000" spc="-1" strike="noStrike">
                <a:solidFill>
                  <a:srgbClr val="ff9933"/>
                </a:solidFill>
                <a:latin typeface="Times New Roman"/>
              </a:rPr>
              <a:t>Что же такое голос?</a:t>
            </a:r>
            <a:endParaRPr b="0" lang="en-US" sz="10000" spc="-1" strike="noStrike">
              <a:solidFill>
                <a:srgbClr val="fbfcf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3520" y="23619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bfcf6"/>
                </a:solidFill>
                <a:latin typeface="Tahoma"/>
              </a:rPr>
              <a:t>А какие основные составляющие голосового аппарата человека</a:t>
            </a:r>
            <a:r>
              <a:rPr b="0" lang="en-US" sz="7200" spc="-1" strike="noStrike">
                <a:solidFill>
                  <a:srgbClr val="fbfcf6"/>
                </a:solidFill>
                <a:latin typeface="Tahoma"/>
              </a:rPr>
              <a:t> </a:t>
            </a:r>
            <a:r>
              <a:rPr b="0" lang="ru-RU" sz="7200" spc="-1" strike="noStrike">
                <a:solidFill>
                  <a:srgbClr val="fbfcf6"/>
                </a:solidFill>
                <a:latin typeface="Tahoma"/>
              </a:rPr>
              <a:t>Вы знаете? </a:t>
            </a:r>
            <a:endParaRPr b="0" lang="en-US" sz="7200" spc="-1" strike="noStrike">
              <a:solidFill>
                <a:srgbClr val="fbfcf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2133720"/>
            <a:ext cx="8229600" cy="213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bfcf6"/>
                </a:solidFill>
                <a:latin typeface="Tahoma"/>
              </a:rPr>
              <a:t>Наш голосовой аппарат столь не велик, что трудно ожидать от него впечатляющего звучания как от музыкального инструмента.</a:t>
            </a:r>
            <a:br>
              <a:rPr sz="4000"/>
            </a:br>
            <a:endParaRPr b="0" lang="en-US" sz="4000" spc="-1" strike="noStrike">
              <a:solidFill>
                <a:srgbClr val="fbfcf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bfcf6"/>
                </a:solidFill>
                <a:latin typeface="Times New Roman"/>
              </a:rPr>
              <a:t>Как же тогда людям удается извлекать столь волшебные звуки?!</a:t>
            </a:r>
            <a:endParaRPr b="0" lang="en-US" sz="4000" spc="-1" strike="noStrike">
              <a:solidFill>
                <a:srgbClr val="fbfcf6"/>
              </a:solidFill>
              <a:latin typeface="Tahoma"/>
            </a:endParaRPr>
          </a:p>
        </p:txBody>
      </p:sp>
      <p:pic>
        <p:nvPicPr>
          <p:cNvPr id="98" name="Picture 4" descr="142581"/>
          <p:cNvPicPr/>
          <p:nvPr/>
        </p:nvPicPr>
        <p:blipFill>
          <a:blip r:embed="rId1"/>
          <a:stretch/>
        </p:blipFill>
        <p:spPr>
          <a:xfrm>
            <a:off x="533520" y="1752480"/>
            <a:ext cx="4343400" cy="46483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min2_1233155029-27899"/>
          <p:cNvPicPr/>
          <p:nvPr/>
        </p:nvPicPr>
        <p:blipFill>
          <a:blip r:embed="rId2"/>
          <a:stretch/>
        </p:blipFill>
        <p:spPr>
          <a:xfrm>
            <a:off x="5334120" y="1752480"/>
            <a:ext cx="326520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ffff"/>
                </a:solidFill>
                <a:latin typeface="Times New Roman"/>
              </a:rPr>
              <a:t>А как же выглядит наш голосовой аппарат?!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Tahoma"/>
              </a:rPr>
              <a:t>Мы знаем строение нашего голосового аппарата. 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Tahoma"/>
              </a:rPr>
              <a:t>А что в нем такое происходит при голосообразовании?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Рисунок 3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4495680" cy="632448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5"/>
          <p:cNvSpPr/>
          <p:nvPr/>
        </p:nvSpPr>
        <p:spPr>
          <a:xfrm>
            <a:off x="4952880" y="380880"/>
            <a:ext cx="373392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Times New Roman"/>
              </a:rPr>
              <a:t>При голосообразовании голосовая щель замкнута и голосовые складки напряжены. Щель открывается под давлением воздуха лишь на короткое время. Через нее из дыхательных путей выходит часть воздуха. После этого, под действием аэродинамического эффекта Бернулли и сил упругости, голосовые складки снова смыкаются, а подскладочное давление снова стремится их разомкнуть. Так возникают квазипериодические импульсы воздушного давления, которые воспринимаются как голос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26073</cp:lastModifiedBy>
  <dcterms:modified xsi:type="dcterms:W3CDTF">2010-04-17T07:12:57Z</dcterms:modified>
  <cp:revision>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